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830C-4AD4-4278-A9BE-BA3044A94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5954-76A8-4C13-802D-B04567E2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4079-DF26-491A-BC60-F5CBAE2AC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8417-E3B5-452E-9D31-53D860564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CEB50-FDD3-44B6-830A-55E1312A5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E9BA4-EB51-4868-ABA8-5ED79AD7A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AB7BA-C74B-4590-BF00-0B3859CF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8512D-368A-40EB-A25D-09EA9922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CEE71-4294-4339-B159-AD6EC727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A68FD-061F-46A8-9286-618AFBB0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A79BD-1DCF-4A69-BBF9-9CCDE8488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2DE9-05F0-4F9B-950E-1EE270270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6E86C-77BC-4ABF-A218-97423C4D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7AC75-99B2-4D08-9184-4066CB5F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F1B1-1854-44FF-9201-E6B92D9D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7D23-3B0A-488F-B1B8-604EF25B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14873-5FED-4644-8FD9-C8F91350C8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3C88A-7C90-449B-804B-ABC73DB6F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9C18-D4DD-46A2-9D31-CEE651C2E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1CFB-5C1E-4C90-B26D-943E0F83F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127B-439D-493B-8422-BF0480DA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8152-DA60-4DB1-A23C-C15F77057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AF5-F901-47A2-9D21-DEFDCA12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8D09-1224-4ED5-9264-4860E892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7A90A-CEBE-4933-8AED-AE4FB6630F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BEC5B-6A05-4E9D-80E1-9F2EFBEBFE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 Frame Rela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P/VC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and semi-permanent channe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sequence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rameter negotiation and usage monito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PC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hannel identifier restriction within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C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separat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 VC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a-signaling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as permanent control signa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set up VCCs to carry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signaling virtual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in pre-established V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wo end users without network intervention to establish and release user to user VC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-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i-perma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stomer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tro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 octe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8 octet information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reduce queuing delay for high priority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ells can be switched more 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ier to implement switching of small cells in hard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ell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9408"/>
          <a:stretch/>
        </p:blipFill>
        <p:spPr>
          <a:xfrm>
            <a:off x="1066680" y="1371600"/>
            <a:ext cx="7239240" cy="538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ic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t user to network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flow only at this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user info or 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loss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ic Flow Control (GF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traffic flow at user to network interface (UNI) to alleviate short term over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ets of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connection either subject to flow control or no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 to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one group (A) defa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two groups (A and 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is from 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led by network 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l equipment (TE) initializes two vari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flag to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 (credit counter) to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cells on uncontrolled connection may be sent any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0 no cells may be sent (on controlled or uncontrolled connec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HALT received, TRANSMIT set to 0 and remains until NO_HA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Group of Connec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=1 and no cell to transmit on any uncontrolled connec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&gt;0, TE may send cell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ll marked as being on controlled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_CNTR decremen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GO_CNTR=0, TE may not send on controlled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 sets GO_CNTR to GO_VALUE upon receiving SE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ll signal has no eff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AL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limit effective data rate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be cyc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reduce data rate by half, HALT issued to be in effect 50% of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regular pattern over lifetime of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ilarities between ATM and packet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of data in discrete chu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logical connections over single physical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TM flow on each logical connection is in fixed sized packets call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(physical layer) 25.6Mbps to 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Queu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coun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_CNTR_A, GO_VALUE_A,GO_CNTR_B, GO_VALUE_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d on remaining 32 bits of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some error cor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C Operation at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362240" y="1952640"/>
            <a:ext cx="641952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3613320" y="0"/>
            <a:ext cx="5530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763"/>
          <a:stretch/>
        </p:blipFill>
        <p:spPr>
          <a:xfrm>
            <a:off x="533520" y="1371600"/>
            <a:ext cx="8001000" cy="52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of ATM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22.0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.6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based 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ming imp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inuous stream of 53 octet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delineation based on header error control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inea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9283"/>
          <a:stretch/>
        </p:blipFill>
        <p:spPr>
          <a:xfrm>
            <a:off x="990720" y="1400040"/>
            <a:ext cx="70866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act of Random Bit Errors on Cell Delineation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183"/>
          <a:stretch/>
        </p:blipFill>
        <p:spPr>
          <a:xfrm>
            <a:off x="533520" y="1447920"/>
            <a:ext cx="800100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quisition Time v Bit Error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1143000" y="1447920"/>
            <a:ext cx="68580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704"/>
          <a:stretch/>
        </p:blipFill>
        <p:spPr>
          <a:xfrm>
            <a:off x="1828800" y="1600200"/>
            <a:ext cx="54007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DH Based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es structure on ATM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for 155.5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TM-1 (STS-3)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arry ATM and STM payloa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 connections can be circuit switched using SD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DH multiplexing techniques can combine several ATM str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M-1 Payload for SDH-Based ATM Cel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9892"/>
          <a:stretch/>
        </p:blipFill>
        <p:spPr>
          <a:xfrm>
            <a:off x="533520" y="1657440"/>
            <a:ext cx="807696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Service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ant bit rate (C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variable bit rate (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real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real time variable bit rate (nrt-V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ailable bit rate (A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specified bit rate (UB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al Tim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ount of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tion of delay (jit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data rate continuous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ght upper bound 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compressed audio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active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/V distribution and retrie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ensitiv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ghtly constrained delay and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-VBR applications transmit at a rate that varies with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mpressed vide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varying sized image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l (uncompressed) frame rate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compressed data rate v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tatistically multiplex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t-V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ble to characterize expected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 QoS in loss and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specif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or average r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of how bursty traffic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irline reservations, banking trans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dditional capacity over and above that used by CBR and VBR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all resources ded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y nature of VB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pplication that can tolerate some cell loss or variable del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 based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s forwarded on FIFO ba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specifies peak cell rate (PCR) and minimum cell rate (MC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s allocated to give at least M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are capacity shared among all ARB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LAN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Adapt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nformation transfer protocol not based o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(voi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emble bit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-assemble into constant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 IP packets onto ATM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gment IP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LAPF over ATM to retain all IP infrastru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ference Model Plan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for user information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 and connect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ole system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yer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ources and parameters in protocol 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Bit Rat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113"/>
          <a:stretch/>
        </p:blipFill>
        <p:spPr>
          <a:xfrm>
            <a:off x="609480" y="1771560"/>
            <a:ext cx="7848720" cy="40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ation Layer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transmission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le lost and misinserted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 and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pported Applic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 voice and vide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dat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ove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rotocol encapsulation over ATM (MPO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X, AppleTalk, DEC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m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rgence sublayer (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 for specific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AL user attaches at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-assembly sublayer (SA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s and unpacks info received from CS into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3/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8334"/>
          <a:stretch/>
        </p:blipFill>
        <p:spPr>
          <a:xfrm>
            <a:off x="685800" y="1447920"/>
            <a:ext cx="7696080" cy="42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and Reassembly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11467"/>
          <a:stretch/>
        </p:blipFill>
        <p:spPr>
          <a:xfrm>
            <a:off x="1066680" y="1447920"/>
            <a:ext cx="701064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B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R packs and unpacks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accompanied by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B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3/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or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ode or stream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AL Type 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transport for connection oriented higher layer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ogical Conne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hannel connections (VC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ous to virtual circuit i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unit of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two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size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, user-network exchange (control) and network-network exchange (network management and rou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 connection (VP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ndle of VCC with same end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PCS PD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10347"/>
          <a:stretch/>
        </p:blipFill>
        <p:spPr>
          <a:xfrm>
            <a:off x="3409920" y="304920"/>
            <a:ext cx="573408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AL 5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17290"/>
          <a:stretch/>
        </p:blipFill>
        <p:spPr>
          <a:xfrm>
            <a:off x="1752480" y="1371600"/>
            <a:ext cx="571500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be more efficient than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efore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r installed base than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now of more interest on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Background - 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packets, in 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of virtual circuits at lay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 2 and 3 include 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iderable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ppropriate for modern digital systems with high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 carried in separate 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and switching at lay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iminates one layer of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op by hop error or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low and error control (if used) are done by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ser data frame sent from source to destination and ACK (from higher layer) sent 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and Dis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link by link error and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 makes this less of a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ommunications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recommend frame relay above 2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0" t="0" r="0" b="23808"/>
          <a:stretch/>
        </p:blipFill>
        <p:spPr>
          <a:xfrm>
            <a:off x="533520" y="1741320"/>
            <a:ext cx="8001000" cy="42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channel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common channel signaling for circuit switching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(Q.92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a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user (TE) and network (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xchange of Q.933 control signa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Pla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info between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PF (Link Access Procedure for Frame Mode Bearer Services) Q.9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delimiting, alignment and transpar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ux and demux using address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integral number of octets (zero bit insertion/extrac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 frame is neither too long nor sh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of transmission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control fun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Connection Relationshi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358"/>
          <a:stretch/>
        </p:blipFill>
        <p:spPr>
          <a:xfrm>
            <a:off x="1219320" y="1371600"/>
            <a:ext cx="6629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P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r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2590920" y="482760"/>
            <a:ext cx="655308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ntrol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inband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flow nor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ified network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network performance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proc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connection setup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V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9717"/>
          <a:stretch/>
        </p:blipFill>
        <p:spPr>
          <a:xfrm>
            <a:off x="4116240" y="457200"/>
            <a:ext cx="50277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hannel Connection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PC provides overall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CC organization done by us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end us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network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traffic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3:07:15Z</dcterms:created>
  <dc:creator>Adrian J Pullin</dc:creator>
  <dc:description/>
  <dc:language>en-US</dc:language>
  <cp:lastModifiedBy>Adrian &amp; Wendy</cp:lastModifiedBy>
  <dcterms:modified xsi:type="dcterms:W3CDTF">1999-11-14T09:55:03Z</dcterms:modified>
  <cp:revision>60</cp:revision>
  <dc:subject/>
  <dc:title>William Stallings Data and Computer Communications</dc:title>
</cp:coreProperties>
</file>